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5BD-8453-465F-8AE1-25CC3A72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884-6CEA-4E44-99A9-1EBD896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698-117C-43DF-8841-C03ACF06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3BF-2076-4502-A590-9E4738F3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0DC6-05EB-4A2F-B92E-FB5CEAA9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A6C-0514-4B60-A07F-B41F63BC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86F3-873D-4584-8260-5F3B7095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BC8-49E1-4E7F-BC36-8E604C41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2194-449D-4BA5-96F7-64D0BA1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25AF-55F3-40B8-9CE4-7423F5D7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527E-BBD1-4C24-B6A4-BB5B342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054-3470-4576-84FD-A7E57FE4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592F-291F-4444-AC93-BF860A95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20D0-B26B-4906-9DCC-5F9FB68B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695E-7144-4521-B68A-ECAD79F5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22C8-4125-4FB9-96AA-3DA2E17E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7821-C4F3-4CC3-BB41-4F42F4AC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798-E5A1-4F3F-9CC9-B8F56735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2E8-88B3-49F4-A92C-09C6331C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F8B-63BF-4006-BE64-968C0EC6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D91-AD5D-4C07-8703-D730286E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48F-E4CF-47FC-B5F9-6C20419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11F-97A5-40F4-9EBB-97045026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A81-6E80-4770-BC49-C0035E5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9EC1-BD46-40CD-8EBC-6B6827D045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E109-5675-4EB3-A739-853B6F87F5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1916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правление неживыми объекта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18478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веди пример из своей жизни, когда обида управляла твоим  повед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  какой   целью,   делая   выбор,   ты   управляешь соб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ты управляешь собой — на основе чег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веди   пример   полученной   тобой   информа­ции,  которая повлияла на твою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жно ли управлять собой, если не получаешь никакой  информации  из внешнего ми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616040"/>
            <a:ext cx="8209080" cy="3564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516720" y="522936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1428480" cy="933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1332000" y="5589720"/>
            <a:ext cx="14288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845120" cy="2251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916360" y="4227480"/>
            <a:ext cx="30956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262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5248080" cy="6058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3843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9640" y="347760"/>
            <a:ext cx="5321520" cy="6510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227640" y="2565360"/>
            <a:ext cx="2737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950760"/>
            <a:ext cx="853272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26:43Z</dcterms:created>
  <dc:creator>Надежда</dc:creator>
  <dc:description/>
  <dc:language>en-US</dc:language>
  <cp:lastModifiedBy>Надежда</cp:lastModifiedBy>
  <dcterms:modified xsi:type="dcterms:W3CDTF">2010-04-19T14:12:29Z</dcterms:modified>
  <cp:revision>2</cp:revision>
  <dc:subject/>
  <dc:title>Управление неживыми объектами</dc:title>
</cp:coreProperties>
</file>