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C65-BB70-44F9-B217-461A6B60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88E-C659-4982-85C6-90E5F0F8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117-4091-4886-A9D2-C759CB60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9A8-2CAB-4C10-810D-7B67ED10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2F93-B8E3-450D-91B6-380ECFB3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3E65-7429-4653-9CC5-54BC04D0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77FB-A71F-4863-BDF0-F883FE5E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2EC3-7AF0-45C2-9A2C-7B8C526B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3D60-1360-4A26-9516-97973DA3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E461-FE4A-4EBA-8E87-01488F48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D434-D906-4F12-B94E-7118ED6A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984-59A6-40DF-B433-63C6B0A9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E48B-E06E-40CA-B1AB-CD56EEC0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6ADE-34E8-4DD3-B052-5D473B27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1549-BE82-4868-BC06-8CEC22D3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B58E-537F-4884-B25D-432B0517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9397-8ECC-4C3B-B7B0-FBCEC973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367-63B3-40E9-970B-6A1DB1BD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010-F443-4B28-AF43-FC5139EA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458-EE07-48E8-9631-D59ABADB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217-FCEB-4C32-B9F6-7D85BA0E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F68-F0C0-4417-B2A9-00E8325B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8CD-E0B4-4699-B63E-44AF44F7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543-D21B-43E7-92A1-F132101B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CD25-22AF-4F43-BBBE-EE1023AD3A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80FF-7577-42FC-9F9B-73D5756937E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3440" y="1125360"/>
            <a:ext cx="86202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2000" spc="-1" strike="noStrike">
                <a:solidFill>
                  <a:srgbClr val="0000cc"/>
                </a:solidFill>
                <a:latin typeface="Georgia"/>
              </a:rPr>
              <a:t>Тема урока:</a:t>
            </a:r>
            <a:r>
              <a:rPr b="1" i="1" lang="en-US" sz="36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a50021"/>
                </a:solidFill>
                <a:latin typeface="Georgia"/>
              </a:rPr>
              <a:t>«Знакомство с клавиатурой»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Script MT Bold"/>
              </a:rPr>
              <a:t>«Дорогу осилит идущий, а информатику – мыслящий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Script MT Bold"/>
              </a:rPr>
              <a:t>Гюстав Гийо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187280" y="476280"/>
            <a:ext cx="741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ae88"/>
                  </a:solidFill>
                  <a:miter/>
                </a:ln>
                <a:solidFill>
                  <a:srgbClr val="9a4d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Управляющие клавиши</a:t>
            </a:r>
            <a:endParaRPr b="1" i="1" lang="en-US" sz="1800" spc="1" strike="noStrike">
              <a:ln w="9360">
                <a:solidFill>
                  <a:srgbClr val="ffae88"/>
                </a:solidFill>
                <a:miter/>
              </a:ln>
              <a:solidFill>
                <a:srgbClr val="9a4d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1871640" cy="1668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124000" y="3789360"/>
            <a:ext cx="1440000" cy="86364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6000" y="3141720"/>
            <a:ext cx="1440000" cy="86364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4365720"/>
            <a:ext cx="1440000" cy="86364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96000" y="1989000"/>
            <a:ext cx="1440000" cy="86364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16000" y="476280"/>
            <a:ext cx="741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70cc79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Цифровые клавиши</a:t>
            </a:r>
            <a:endParaRPr b="1" i="1" lang="en-US" sz="1800" spc="1" strike="noStrike">
              <a:ln w="9360">
                <a:solidFill>
                  <a:srgbClr val="70cc79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21" name=""/>
          <p:cNvSpPr/>
          <p:nvPr/>
        </p:nvSpPr>
        <p:spPr>
          <a:xfrm>
            <a:off x="2411280" y="1844640"/>
            <a:ext cx="79236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19640" y="1844640"/>
            <a:ext cx="79200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7640" y="1844640"/>
            <a:ext cx="79200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9640" y="3573360"/>
            <a:ext cx="79200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19640" y="2708280"/>
            <a:ext cx="79200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7640" y="3573360"/>
            <a:ext cx="79200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27640" y="2708280"/>
            <a:ext cx="79200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g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3573360"/>
            <a:ext cx="79236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11280" y="2708280"/>
            <a:ext cx="79236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19640" y="4437000"/>
            <a:ext cx="79200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11280" y="4437000"/>
            <a:ext cx="79236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7640" y="4437000"/>
            <a:ext cx="79200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g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484360" y="5300640"/>
            <a:ext cx="180036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27640" y="5300640"/>
            <a:ext cx="79200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64000" y="1844640"/>
            <a:ext cx="792360" cy="72072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64000" y="2708280"/>
            <a:ext cx="792360" cy="158436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64000" y="4437000"/>
            <a:ext cx="792360" cy="158436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499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85128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700360" y="4005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16360" y="4005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80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7928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00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9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1928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25892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7964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40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0036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4036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8000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1964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5928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19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5928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0072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4292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8472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04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43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4328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8436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2400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6364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08472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328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2436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6400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0364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172360" y="292428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812000" y="292428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80400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4364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45164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451640" y="292428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17236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81200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172360" y="371628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451640" y="3716280"/>
            <a:ext cx="649440" cy="2890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172360" y="328464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812000" y="328464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51640" y="328464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32720" y="2565360"/>
            <a:ext cx="287280" cy="64764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532720" y="3284640"/>
            <a:ext cx="287280" cy="720720"/>
          </a:xfrm>
          <a:prstGeom prst="bevel">
            <a:avLst>
              <a:gd name="adj" fmla="val 1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04000" y="2997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43640" y="2997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84720" y="2997360"/>
            <a:ext cx="289080" cy="287280"/>
          </a:xfrm>
          <a:prstGeom prst="bevel">
            <a:avLst>
              <a:gd name="adj" fmla="val 125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443640" y="3357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443640" y="3789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84720" y="3789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04000" y="3789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4800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98764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62728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0800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4764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6836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285264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67280" y="285264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0836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2436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6400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0364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4328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292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0328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6364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8436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2400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8472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3213000"/>
            <a:ext cx="72072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9280" y="364500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00000" y="364500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640" y="364500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258920" y="3645000"/>
            <a:ext cx="2376360" cy="288720"/>
          </a:xfrm>
          <a:prstGeom prst="bevel">
            <a:avLst>
              <a:gd name="adj" fmla="val 125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40360" y="3645000"/>
            <a:ext cx="36036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08360" y="3645000"/>
            <a:ext cx="35892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003640" y="3645000"/>
            <a:ext cx="43200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0" y="3645000"/>
            <a:ext cx="36036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643280" y="3213000"/>
            <a:ext cx="79236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865440" cy="771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8436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4292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0328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5600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764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2400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6364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4836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1636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5128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8472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1964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44364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08472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400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524720" y="1773360"/>
            <a:ext cx="216000" cy="144360"/>
          </a:xfrm>
          <a:prstGeom prst="ellipse">
            <a:avLst/>
          </a:prstGeom>
          <a:solidFill>
            <a:srgbClr val="df03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885080" y="1773360"/>
            <a:ext cx="216000" cy="144360"/>
          </a:xfrm>
          <a:prstGeom prst="ellipse">
            <a:avLst/>
          </a:prstGeom>
          <a:solidFill>
            <a:srgbClr val="df03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17080" y="1773360"/>
            <a:ext cx="215640" cy="144360"/>
          </a:xfrm>
          <a:prstGeom prst="ellipse">
            <a:avLst/>
          </a:prstGeom>
          <a:solidFill>
            <a:srgbClr val="df03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979640" y="476280"/>
            <a:ext cx="475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Georgia"/>
              </a:rPr>
              <a:t>КЛАВИАТУРА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Georgia"/>
              <a:ea typeface="Georgia"/>
            </a:endParaRPr>
          </a:p>
        </p:txBody>
      </p:sp>
      <p:sp>
        <p:nvSpPr>
          <p:cNvPr id="446" name=""/>
          <p:cNvSpPr/>
          <p:nvPr/>
        </p:nvSpPr>
        <p:spPr>
          <a:xfrm>
            <a:off x="900000" y="4508640"/>
            <a:ext cx="216000" cy="2156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00000" y="4869000"/>
            <a:ext cx="216000" cy="215640"/>
          </a:xfrm>
          <a:prstGeom prst="rect">
            <a:avLst/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00000" y="6021360"/>
            <a:ext cx="216000" cy="2160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661000"/>
            <a:ext cx="216000" cy="2160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00000" y="5300640"/>
            <a:ext cx="216000" cy="216000"/>
          </a:xfrm>
          <a:prstGeom prst="rect">
            <a:avLst/>
          </a:prstGeom>
          <a:solidFill>
            <a:srgbClr val="ffa1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32000" y="43657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ональные клав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32000" y="4724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фавитно-цифровые клав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32000" y="5157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равляющие клав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32000" y="551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авиши управления курс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32000" y="58770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фровые клав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2852640"/>
            <a:ext cx="576360" cy="2890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2492280"/>
            <a:ext cx="433440" cy="2890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7928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1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53272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7236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812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451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00000" y="6381720"/>
            <a:ext cx="216000" cy="216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332000" y="623736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авиши редак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920" y="3644640"/>
            <a:ext cx="779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5f7b"/>
                </a:solidFill>
                <a:latin typeface="Tahoma"/>
              </a:rPr>
              <a:t>Как нажимать клавиши.</a:t>
            </a: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3456000" cy="21049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4211640" y="4295880"/>
            <a:ext cx="4495680" cy="22431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900000" y="260280"/>
            <a:ext cx="77932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515f7b"/>
                </a:solidFill>
                <a:latin typeface="Tahoma"/>
              </a:rPr>
              <a:t>Как держать паль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547640" y="3170160"/>
            <a:ext cx="6120000" cy="22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 учащихся пользоваться клавиатурой при работе с компьютер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вать подвижность кистей рук при работе на клавиатур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спитывать аккуратность при работе с компьютер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вать творчество учащихся на уроках информат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75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Кроссворд </a:t>
            </a:r>
            <a:br>
              <a:rPr sz="4400"/>
            </a:b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«Устройства компьютера». 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1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476280"/>
          <a:ext cx="8568720" cy="5903640"/>
        </p:xfrm>
        <a:graphic>
          <a:graphicData uri="http://schemas.openxmlformats.org/drawingml/2006/table">
            <a:tbl>
              <a:tblPr/>
              <a:tblGrid>
                <a:gridCol w="503280"/>
                <a:gridCol w="502920"/>
                <a:gridCol w="506520"/>
                <a:gridCol w="503280"/>
                <a:gridCol w="502920"/>
                <a:gridCol w="504720"/>
                <a:gridCol w="505080"/>
                <a:gridCol w="503280"/>
                <a:gridCol w="505080"/>
                <a:gridCol w="502920"/>
                <a:gridCol w="504720"/>
                <a:gridCol w="505080"/>
                <a:gridCol w="502920"/>
                <a:gridCol w="503280"/>
                <a:gridCol w="506520"/>
                <a:gridCol w="503280"/>
                <a:gridCol w="502920"/>
              </a:tblGrid>
              <a:tr h="65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4360" y="1773360"/>
            <a:ext cx="7704000" cy="2087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Клавиатур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– это устройство для ввода информации в компью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036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213372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3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249228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249228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72360" y="292428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12000" y="292428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0400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4364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5164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51640" y="292428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12000" y="256536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371628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3716280"/>
            <a:ext cx="649440" cy="2890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72360" y="328464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12000" y="328464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51640" y="328464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32720" y="2565360"/>
            <a:ext cx="287280" cy="64764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32720" y="3284640"/>
            <a:ext cx="287280" cy="720720"/>
          </a:xfrm>
          <a:prstGeom prst="bevel">
            <a:avLst>
              <a:gd name="adj" fmla="val 1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04000" y="2997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43640" y="2997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2997360"/>
            <a:ext cx="289080" cy="287280"/>
          </a:xfrm>
          <a:prstGeom prst="bevel">
            <a:avLst>
              <a:gd name="adj" fmla="val 125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335772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3789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3789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3789360"/>
            <a:ext cx="289080" cy="2872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800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4764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6836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285264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7280" y="285264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285264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24000" y="3213000"/>
            <a:ext cx="28908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84720" y="3213000"/>
            <a:ext cx="288720" cy="2872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3213000"/>
            <a:ext cx="72072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64500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364500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645000"/>
            <a:ext cx="28908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3645000"/>
            <a:ext cx="2376360" cy="288720"/>
          </a:xfrm>
          <a:prstGeom prst="bevel">
            <a:avLst>
              <a:gd name="adj" fmla="val 125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40360" y="3645000"/>
            <a:ext cx="36036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3645000"/>
            <a:ext cx="35892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3640" y="3645000"/>
            <a:ext cx="43200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3645000"/>
            <a:ext cx="360360" cy="28872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3213000"/>
            <a:ext cx="792360" cy="2872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865080" cy="771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8436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0328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6364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4836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472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1773360"/>
            <a:ext cx="288720" cy="214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4364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8472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0400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24720" y="1773360"/>
            <a:ext cx="216000" cy="144360"/>
          </a:xfrm>
          <a:prstGeom prst="ellipse">
            <a:avLst/>
          </a:prstGeom>
          <a:solidFill>
            <a:srgbClr val="df03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85080" y="1773360"/>
            <a:ext cx="216000" cy="144360"/>
          </a:xfrm>
          <a:prstGeom prst="ellipse">
            <a:avLst/>
          </a:prstGeom>
          <a:solidFill>
            <a:srgbClr val="df03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17080" y="1773360"/>
            <a:ext cx="215640" cy="144360"/>
          </a:xfrm>
          <a:prstGeom prst="ellipse">
            <a:avLst/>
          </a:prstGeom>
          <a:solidFill>
            <a:srgbClr val="df03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979640" y="476280"/>
            <a:ext cx="475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Georgia"/>
              </a:rPr>
              <a:t>КЛАВИАТУРА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Georgia"/>
              <a:ea typeface="Georgia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508640"/>
            <a:ext cx="216000" cy="21564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4869000"/>
            <a:ext cx="216000" cy="215640"/>
          </a:xfrm>
          <a:prstGeom prst="rect">
            <a:avLst/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6021360"/>
            <a:ext cx="216000" cy="2160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5661000"/>
            <a:ext cx="216000" cy="2160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5300640"/>
            <a:ext cx="216000" cy="216000"/>
          </a:xfrm>
          <a:prstGeom prst="rect">
            <a:avLst/>
          </a:prstGeom>
          <a:solidFill>
            <a:srgbClr val="ffa1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43657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ональные клав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4724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фавитно-цифровые клав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5157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равляющие клав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551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авиши управления курс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58770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фровые клав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2852640"/>
            <a:ext cx="576360" cy="2890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2492280"/>
            <a:ext cx="433440" cy="289080"/>
          </a:xfrm>
          <a:prstGeom prst="bevel">
            <a:avLst>
              <a:gd name="adj" fmla="val 12500"/>
            </a:avLst>
          </a:prstGeom>
          <a:solidFill>
            <a:srgbClr val="ffae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1773360"/>
            <a:ext cx="289080" cy="214200"/>
          </a:xfrm>
          <a:prstGeom prst="bevel">
            <a:avLst>
              <a:gd name="adj" fmla="val 12500"/>
            </a:avLst>
          </a:prstGeom>
          <a:solidFill>
            <a:srgbClr val="ffa1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53272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2133720"/>
            <a:ext cx="289080" cy="287280"/>
          </a:xfrm>
          <a:prstGeom prst="bevel">
            <a:avLst>
              <a:gd name="adj" fmla="val 12500"/>
            </a:avLst>
          </a:prstGeom>
          <a:solidFill>
            <a:srgbClr val="499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6381720"/>
            <a:ext cx="216000" cy="216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623736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авиши редак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1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7200" y="3216240"/>
            <a:ext cx="614520" cy="423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2600" y="3216240"/>
            <a:ext cx="615960" cy="4255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76320" y="3219480"/>
            <a:ext cx="590760" cy="42048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23960" y="3222720"/>
            <a:ext cx="623880" cy="41904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11560" y="3222720"/>
            <a:ext cx="625320" cy="42048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97360" y="3216240"/>
            <a:ext cx="630360" cy="4255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92520" y="3216240"/>
            <a:ext cx="628920" cy="41904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83360" y="3216240"/>
            <a:ext cx="672840" cy="42228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10200" y="3216240"/>
            <a:ext cx="685800" cy="4269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43880" y="3216240"/>
            <a:ext cx="672840" cy="42228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59560" y="3216240"/>
            <a:ext cx="685800" cy="41904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194680" y="3216240"/>
            <a:ext cx="650880" cy="4158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3216240"/>
            <a:ext cx="630360" cy="4255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58920" y="54936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Функциональные клавиши</a:t>
            </a:r>
            <a:endParaRPr b="1" i="1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268360" y="4365000"/>
            <a:ext cx="2880000" cy="647640"/>
          </a:xfrm>
          <a:prstGeom prst="wedgeEllipseCallout">
            <a:avLst>
              <a:gd name="adj1" fmla="val -97245"/>
              <a:gd name="adj2" fmla="val 14166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Вызов спр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116000" y="476280"/>
            <a:ext cx="712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Алфавитно-цифровые</a:t>
            </a:r>
            <a:endParaRPr b="1" i="1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клавиши</a:t>
            </a:r>
            <a:endParaRPr b="1" i="1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4149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443640" y="4149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4149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48360" y="4149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00720" y="4149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56000" y="4149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3640" y="4149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149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8000" y="4149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58920" y="4149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036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88000" y="350028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8472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32720" y="350028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40360" y="350028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4328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95640" y="350028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350028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4072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00720" y="285264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285264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9600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4364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93080" y="285264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285264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56000" y="2852640"/>
            <a:ext cx="57600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0364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5128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58920" y="2852640"/>
            <a:ext cx="576360" cy="50508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990033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2400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7636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@ </a:t>
            </a: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4600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484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6400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1636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067280" y="2133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19640" y="2133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0872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659640" y="2133720"/>
            <a:ext cx="57636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2133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956720" y="2133720"/>
            <a:ext cx="576000" cy="504720"/>
          </a:xfrm>
          <a:prstGeom prst="bevel">
            <a:avLst>
              <a:gd name="adj" fmla="val 12500"/>
            </a:avLst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484360" y="2133720"/>
            <a:ext cx="719280" cy="6490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84360" y="2924280"/>
            <a:ext cx="719280" cy="6490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84720" y="2133720"/>
            <a:ext cx="718920" cy="6490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19640" y="2133720"/>
            <a:ext cx="718920" cy="6490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19640" y="2924280"/>
            <a:ext cx="718920" cy="6490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84720" y="2924280"/>
            <a:ext cx="718920" cy="6490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84720" y="3789360"/>
            <a:ext cx="71892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3789360"/>
            <a:ext cx="71892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84360" y="3789360"/>
            <a:ext cx="71928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19640" y="4653000"/>
            <a:ext cx="718920" cy="64908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84720" y="5445000"/>
            <a:ext cx="71892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5445000"/>
            <a:ext cx="71892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5445000"/>
            <a:ext cx="718920" cy="649440"/>
          </a:xfrm>
          <a:prstGeom prst="bevel">
            <a:avLst>
              <a:gd name="adj" fmla="val 12500"/>
            </a:avLst>
          </a:prstGeom>
          <a:solidFill>
            <a:srgbClr val="a6a2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116000" y="404640"/>
            <a:ext cx="734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Клавиши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управления курсора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780000" y="486900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00360" y="5734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8000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00720" y="573408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9:06:42Z</dcterms:created>
  <dc:creator>Надежда</dc:creator>
  <dc:description/>
  <dc:language>en-US</dc:language>
  <cp:lastModifiedBy>Надежда</cp:lastModifiedBy>
  <dcterms:modified xsi:type="dcterms:W3CDTF">2010-10-11T15:37:17Z</dcterms:modified>
  <cp:revision>14</cp:revision>
  <dc:subject/>
  <dc:title>Слайд 1</dc:title>
</cp:coreProperties>
</file>